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16CD-E7D3-4286-A493-8F13786F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AADB-C25C-462B-8676-4F04CC7B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B50-4CE9-42EF-BA95-B6F4E0FA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B3A-0C06-40E0-90BE-28DB1F93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7EE-B367-4F10-B132-DB01F3D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E4F-7802-4C4F-9704-8C841176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27E-CFDB-4A80-9B95-4D0D47F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C91-EF23-400D-B438-05FF003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425-62EA-4780-ABE6-9A8321C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541-8C4F-4563-BF58-8349CCF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235-02EC-46CA-A8FE-7AE64CA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617-6B15-4DC8-9216-63A138AC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D8F-E3F7-48BC-AACA-AABADD6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805-335B-4F56-A6D7-E42E634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A61E-C2D4-418D-A65F-3CA5FF42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Lesley. Yo vivo en Queens, Nueve York.  Yo tengo 14 años. Yo tengo una hermana y un hermano. Yo soy chistosa y mi gusta la mu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46280" y="64008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hristy.jpeg"/>
          <p:cNvPicPr/>
          <p:nvPr/>
        </p:nvPicPr>
        <p:blipFill>
          <a:blip r:embed="rId7"/>
          <a:stretch/>
        </p:blipFill>
        <p:spPr>
          <a:xfrm>
            <a:off x="152280" y="52578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rosi.jpeg"/>
          <p:cNvPicPr/>
          <p:nvPr/>
        </p:nvPicPr>
        <p:blipFill>
          <a:blip r:embed="rId8"/>
          <a:stretch/>
        </p:blipFill>
        <p:spPr>
          <a:xfrm>
            <a:off x="762120" y="532116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haty.jpeg"/>
          <p:cNvPicPr/>
          <p:nvPr/>
        </p:nvPicPr>
        <p:blipFill>
          <a:blip r:embed="rId9"/>
          <a:stretch/>
        </p:blipFill>
        <p:spPr>
          <a:xfrm>
            <a:off x="13716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Photo on 12-3-12 at 8.56 AM #2.jpg"/>
          <p:cNvPicPr/>
          <p:nvPr/>
        </p:nvPicPr>
        <p:blipFill>
          <a:blip r:embed="rId10"/>
          <a:stretch/>
        </p:blipFill>
        <p:spPr>
          <a:xfrm>
            <a:off x="0" y="380880"/>
            <a:ext cx="1905120" cy="172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ikus.jpeg"/>
          <p:cNvPicPr/>
          <p:nvPr/>
        </p:nvPicPr>
        <p:blipFill>
          <a:blip r:embed="rId11"/>
          <a:stretch/>
        </p:blipFill>
        <p:spPr>
          <a:xfrm>
            <a:off x="1295280" y="5867280"/>
            <a:ext cx="5335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03:49Z</dcterms:modified>
  <cp:revision>100</cp:revision>
  <dc:subject/>
  <dc:title>Profile</dc:title>
</cp:coreProperties>
</file>